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D48-5BCA-418F-BEE1-9C7B5CD5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6AE-8282-46BD-92C0-E563440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392-545A-48AA-A532-7507B54F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AFF-044B-415E-AF19-6756AC32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3E1-901B-4D1C-8A8D-A956FEE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7DC-BDF0-48CF-8CF1-2B736638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D94-A680-4E4D-8415-17C1A54D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373-0C8B-4EA9-9290-7B9D4AA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AE0-91AB-4C02-9FDB-DE49DAAF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073-1533-469F-A51D-CF49FE7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26E-1E44-48EF-9D42-D2D04850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0B0-23D2-49EE-BFA4-D56763F9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811-4DAB-4959-88A0-C7C6D830A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ODELING FACTOR MARKETS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b Dav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PS Cour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roduction to CGE Model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toria March 20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CTORAL WAGE DIFFERENCES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mogenous Labou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uld be paid uniform r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observe differences in real worl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greg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really homogeneous/mobi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PRI models introduce these to be more realisti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CTORAL WAGE DIFFERENCES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u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tor specific wage rates: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fa(F,A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ywide average wage: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F(F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toral “wage distortion” factor: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FDIST(F,A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lationshi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FDIST(F,A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fa(F,A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/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F(F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CTORAL WAGE DIFFERENCE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umerical Exampl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um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fa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-A’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1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fa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-A’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5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F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-A’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7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F(‘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-A’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3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F(F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(10 x 70 + 50 x 30) / (70 + 30) = R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fore sectoral “wage distortion” factors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FDIST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-A’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10/R22 = 0.4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bour only gets about 45% of the average w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FDIST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-A’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50/R22 = 2.27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abour receives about 127% more than average w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bining the Two Changes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changes allow a number of combina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tors can b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3276720"/>
          <a:ext cx="8229600" cy="297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5800"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b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tor Speci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ully 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00400" y="4038480"/>
            <a:ext cx="2590920" cy="10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FS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F flex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FDIST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181480"/>
            <a:ext cx="2590920" cy="99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S flex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F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FDIST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038480"/>
            <a:ext cx="2590920" cy="10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FS fixe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F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FDIST flex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5221440"/>
            <a:ext cx="2590920" cy="950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S flex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F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FDIST fix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odel implementation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ermitting Unemploymen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vert qfs(F) parameter to vari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new equa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roduce factor closure options to switch on or off which are fixed or flexible: WFDIST(‘LAB’,A), WF(‘LAB’,A) or QFS(‘LAB’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odel implementation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ctor Specific Wages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Variable: WFDIST(F,A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new equations, but insert WFDIST wherever WF appea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ed physical factor quantities to estimate sector specific wag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or( ‘AGR-A’) = 1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or(‘NAGR-A’) = 5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parameter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fa(F,A) to calibrate WFDIST(F,A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ropose Two Model Adjustments: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: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unemploy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3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: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a factor to receive sector specific w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3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l focus on labour, but can apply to  any facto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LLOWING UNEMPLOYMEN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urrent Model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09680" y="1981080"/>
            <a:ext cx="4724640" cy="3505320"/>
            <a:chOff x="2209680" y="1981080"/>
            <a:chExt cx="4724640" cy="3505320"/>
          </a:xfrm>
        </p:grpSpPr>
        <p:sp>
          <p:nvSpPr>
            <p:cNvPr id="49" name=""/>
            <p:cNvSpPr/>
            <p:nvPr/>
          </p:nvSpPr>
          <p:spPr>
            <a:xfrm>
              <a:off x="2209680" y="1981080"/>
              <a:ext cx="0" cy="350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5486400"/>
              <a:ext cx="472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981600" y="2263680"/>
            <a:ext cx="4190760" cy="241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67360" y="1981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16240" y="2685960"/>
            <a:ext cx="4191120" cy="241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209680" y="3747960"/>
            <a:ext cx="285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09680" y="2889360"/>
            <a:ext cx="285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3800" y="3611520"/>
            <a:ext cx="40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6200" y="5132520"/>
            <a:ext cx="3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1120" y="155412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002040"/>
            <a:ext cx="53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843200"/>
            <a:ext cx="121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age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35640" y="5576760"/>
            <a:ext cx="20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ntity of Lab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99360" y="4727520"/>
            <a:ext cx="37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28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4360" y="1447920"/>
            <a:ext cx="1998720" cy="1306440"/>
          </a:xfrm>
          <a:prstGeom prst="wedgeRoundRectCallout">
            <a:avLst>
              <a:gd name="adj1" fmla="val -100518"/>
              <a:gd name="adj2" fmla="val -308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OGEN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led as a param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672000" y="2394000"/>
            <a:ext cx="1529280" cy="2839680"/>
            <a:chOff x="3672000" y="2394000"/>
            <a:chExt cx="1529280" cy="2839680"/>
          </a:xfrm>
        </p:grpSpPr>
        <p:sp>
          <p:nvSpPr>
            <p:cNvPr id="65" name=""/>
            <p:cNvSpPr/>
            <p:nvPr/>
          </p:nvSpPr>
          <p:spPr>
            <a:xfrm>
              <a:off x="4034520" y="4959360"/>
              <a:ext cx="1166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9144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QF(‘LAB’,’AGR-A’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2000" y="2394000"/>
              <a:ext cx="944280" cy="238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09200" y="1628640"/>
            <a:ext cx="2018520" cy="3060720"/>
            <a:chOff x="2509200" y="1628640"/>
            <a:chExt cx="2018520" cy="3060720"/>
          </a:xfrm>
        </p:grpSpPr>
        <p:sp>
          <p:nvSpPr>
            <p:cNvPr id="68" name=""/>
            <p:cNvSpPr/>
            <p:nvPr/>
          </p:nvSpPr>
          <p:spPr>
            <a:xfrm>
              <a:off x="3176640" y="2394000"/>
              <a:ext cx="1351080" cy="2295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09200" y="1628640"/>
              <a:ext cx="12823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9144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QF(‘LAB’,‘NAGR-A’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48148E-006 L -0.1257 -0.00347 E">
                                      <p:cBhvr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is unemployment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 want to wo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not find wo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the existing w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 unemployment must involve some kind of wage rigid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Fixed Wage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09680" y="1981080"/>
            <a:ext cx="4724640" cy="3505320"/>
            <a:chOff x="2209680" y="1981080"/>
            <a:chExt cx="4724640" cy="3505320"/>
          </a:xfrm>
        </p:grpSpPr>
        <p:sp>
          <p:nvSpPr>
            <p:cNvPr id="74" name=""/>
            <p:cNvSpPr/>
            <p:nvPr/>
          </p:nvSpPr>
          <p:spPr>
            <a:xfrm>
              <a:off x="2209680" y="1981080"/>
              <a:ext cx="0" cy="350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5486400"/>
              <a:ext cx="472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743200" y="2286000"/>
            <a:ext cx="4191120" cy="24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685960"/>
            <a:ext cx="4190760" cy="241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209680" y="3138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45240" y="4983120"/>
            <a:ext cx="3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038480" y="1554120"/>
            <a:ext cx="381240" cy="3627360"/>
            <a:chOff x="4038480" y="1554120"/>
            <a:chExt cx="381240" cy="3627360"/>
          </a:xfrm>
        </p:grpSpPr>
        <p:sp>
          <p:nvSpPr>
            <p:cNvPr id="81" name=""/>
            <p:cNvSpPr/>
            <p:nvPr/>
          </p:nvSpPr>
          <p:spPr>
            <a:xfrm flipV="1">
              <a:off x="4191120" y="1981080"/>
              <a:ext cx="0" cy="320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1554120"/>
              <a:ext cx="38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qf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76520" y="3002040"/>
            <a:ext cx="53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843200"/>
            <a:ext cx="121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age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35640" y="5576760"/>
            <a:ext cx="20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ntity of Lab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6160" y="4662360"/>
            <a:ext cx="37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28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19200">
            <a:off x="3466800" y="24382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1"/>
            <a:endCxn id="89" idx="1"/>
          </p:cNvCxnSpPr>
          <p:nvPr/>
        </p:nvCxnSpPr>
        <p:spPr>
          <a:xfrm flipH="1" flipV="1" rot="5400000">
            <a:off x="3972600" y="1419480"/>
            <a:ext cx="989280" cy="1696320"/>
          </a:xfrm>
          <a:prstGeom prst="curvedConnector2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289840" y="1523880"/>
            <a:ext cx="1855440" cy="45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em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724280"/>
            <a:ext cx="2895480" cy="838440"/>
          </a:xfrm>
          <a:prstGeom prst="wedgeRoundRectCallout">
            <a:avLst>
              <a:gd name="adj1" fmla="val 47916"/>
              <a:gd name="adj2" fmla="val -239013"/>
              <a:gd name="adj3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not be ‘equilibrium’ because D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22222E-006 L -0.11494 -0.00416 E">
                                      <p:cBhvr>
                                        <p:cTn id="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Fix Wage/Endogenise Supply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make wage rate fix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quilibrium’ achieved by quantity adjust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labour supply endogeno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justs to match dema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fectly elastic supp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 if pool of workers outside the mod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employment not explicitly in the mod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erfectly Elastic Supply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09680" y="1981080"/>
            <a:ext cx="4724640" cy="3505320"/>
            <a:chOff x="2209680" y="1981080"/>
            <a:chExt cx="4724640" cy="3505320"/>
          </a:xfrm>
        </p:grpSpPr>
        <p:sp>
          <p:nvSpPr>
            <p:cNvPr id="95" name=""/>
            <p:cNvSpPr/>
            <p:nvPr/>
          </p:nvSpPr>
          <p:spPr>
            <a:xfrm>
              <a:off x="2209680" y="1981080"/>
              <a:ext cx="0" cy="350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5486400"/>
              <a:ext cx="472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743200" y="2286000"/>
            <a:ext cx="4191120" cy="24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09680" y="31384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002040"/>
            <a:ext cx="53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843200"/>
            <a:ext cx="121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age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35640" y="5576760"/>
            <a:ext cx="20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ntity of Lab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6160" y="4662360"/>
            <a:ext cx="37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28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4960" y="2971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31240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2320" y="2685960"/>
            <a:ext cx="4657320" cy="2800440"/>
            <a:chOff x="2362320" y="2685960"/>
            <a:chExt cx="4657320" cy="2800440"/>
          </a:xfrm>
        </p:grpSpPr>
        <p:sp>
          <p:nvSpPr>
            <p:cNvPr id="106" name=""/>
            <p:cNvSpPr/>
            <p:nvPr/>
          </p:nvSpPr>
          <p:spPr>
            <a:xfrm>
              <a:off x="2362320" y="2685960"/>
              <a:ext cx="4190760" cy="241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45240" y="4983120"/>
              <a:ext cx="37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9144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QF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7040" y="312408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124080" y="1924200"/>
            <a:ext cx="4746600" cy="3587760"/>
            <a:chOff x="3124080" y="1924200"/>
            <a:chExt cx="4746600" cy="3587760"/>
          </a:xfrm>
        </p:grpSpPr>
        <p:sp>
          <p:nvSpPr>
            <p:cNvPr id="110" name=""/>
            <p:cNvSpPr/>
            <p:nvPr/>
          </p:nvSpPr>
          <p:spPr>
            <a:xfrm>
              <a:off x="3124080" y="1924200"/>
              <a:ext cx="4191120" cy="24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6280" y="4191120"/>
              <a:ext cx="37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9144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QF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314964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726000" y="5607000"/>
            <a:ext cx="106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QFS.L(‘BASE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1400" y="5987880"/>
            <a:ext cx="105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QFS.L(‘SIM1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31120" y="5987880"/>
            <a:ext cx="105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QFS.L(‘SIM2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002040"/>
            <a:ext cx="609480" cy="27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533520"/>
            <a:ext cx="1447560" cy="1143000"/>
          </a:xfrm>
          <a:prstGeom prst="wedgeRoundRectCallout">
            <a:avLst>
              <a:gd name="adj1" fmla="val -81907"/>
              <a:gd name="adj2" fmla="val 165833"/>
              <a:gd name="adj3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make labour supply a vari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8280" y="4102200"/>
            <a:ext cx="5069520" cy="405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y automatically adjusts to match de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CTOR SPECIFIC WAGE RATES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39:00Z</dcterms:created>
  <dc:creator>Rob Davies</dc:creator>
  <dc:description>Developed for the 2004 CGE Course
Problem with definition of mobile</dc:description>
  <dc:language>en-US</dc:language>
  <cp:lastModifiedBy>Dirk New</cp:lastModifiedBy>
  <dcterms:modified xsi:type="dcterms:W3CDTF">2007-03-18T11:30:40Z</dcterms:modified>
  <cp:revision>12</cp:revision>
  <dc:subject/>
  <dc:title>FACTOR MARKETS</dc:title>
</cp:coreProperties>
</file>